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617F-499C-4CE4-82E3-6FB7D8682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98C8-2419-4F27-BEA7-C5108E35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BB84-FDFF-4B96-AF1D-CAD2C4E6D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B28C-E926-401A-B337-74876ABA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D884-0E71-4756-984F-748D843D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374F-4989-4676-9692-36B12C53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E5FC-B0CF-402A-A2D4-4BE8F78C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7ACB-C9DE-43A2-A2F3-FD278259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9076-9595-4E98-A860-400EFA68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A3EF-D26B-49B1-AA93-2972A9C6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0317-FD89-4C6D-88BC-2518808D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A15C-064A-42BA-9572-88149EEB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1153-A595-44ED-87FF-4540F41DB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Will Need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naissance – A European cultural movement where there was growth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434340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onardo da Vin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ually, Leonardo’s works will be considered some of the best 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2763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 many of you have ever heard of Leonar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y is he fam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505320" y="3276720"/>
            <a:ext cx="2009520" cy="3047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64680" y="63244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4038480"/>
            <a:ext cx="2009880" cy="2276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1080" y="628488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this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477120" y="3886200"/>
            <a:ext cx="1847880" cy="2476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784200" y="632448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this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1523520"/>
            <a:ext cx="4953240" cy="21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onardo da Vinci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naissance 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38080" y="4571640"/>
            <a:ext cx="3657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105520" y="609480"/>
            <a:ext cx="383040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onardo da Vin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onardo da Vinci came to Florence in 1466, during the Renaiss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31161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onardo da Vin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onardo will produce some of the world’s best known pain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486400" y="1600200"/>
            <a:ext cx="2841480" cy="4419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644080" y="6019920"/>
            <a:ext cx="24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onardo’s Mona Li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onardo da Vin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 of Leonardo’s work survives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studi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much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191120" y="2362320"/>
            <a:ext cx="457200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onardo da Vin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26672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onardo was one of the first to cut up dead people to see how the body work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sounds gross, but a lot was learn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3116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onardo da Vin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experimented with new ways of pai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5486400" cy="3024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747880" y="5867280"/>
            <a:ext cx="30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onardo’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he Last Su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onardo da Vin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fortunately, when he died, Leonardo thought of himself as a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2763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02:24:41Z</dcterms:created>
  <dc:creator>IM</dc:creator>
  <dc:description/>
  <dc:language>en-US</dc:language>
  <cp:lastModifiedBy>San Diego City Schools</cp:lastModifiedBy>
  <dcterms:modified xsi:type="dcterms:W3CDTF">2012-04-17T14:26:34Z</dcterms:modified>
  <cp:revision>4</cp:revision>
  <dc:subject/>
  <dc:title>You Will Need to Know</dc:title>
</cp:coreProperties>
</file>